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DF33-687F-4FC4-9CA2-07F57302A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0629-DB53-4328-A287-0C600CA1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26E3-9D8F-4CF0-9DA1-E8172C89B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0917-DF95-4AE7-993C-40429178F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5BF7-A6F2-4AC0-B25E-BC782C5A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1284-0D7D-4929-87B5-A500D6D4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1E7B-4A5D-4B17-9C61-924B3B53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764C-A5B8-4947-8DB2-A999006B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4E93-A82E-449E-8F66-A1CFE56B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7259-4A6B-4B2C-A0A5-B1B10549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4634-A578-4C2B-810A-0544D5E8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0CDA-742A-45EE-9664-F9741F95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6EBD-9673-4874-94C6-9CCA0C39F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9600"/>
            <a:ext cx="82296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controls the same as laws for a busin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e fraud is the intentional act of deceiving an employer for personal 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bank reconciliation, the adjusted balances in the bank and company sections do not have to be eq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petty cash fund does not need control procedures because it deals only with small expenditur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TPChart"/>
          <p:cNvGraphicFramePr/>
          <p:nvPr/>
        </p:nvGraphicFramePr>
        <p:xfrm>
          <a:off x="4508640" y="2093760"/>
          <a:ext cx="4406760" cy="470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093760"/>
                    <a:ext cx="4406760" cy="470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7982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8072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of the following is not an objective of internal contro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1148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sure that assets are safeguarded and used for business purp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sure that business information is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sure that employees comply with laws and reg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sure that accountants do their 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of the following is not a factor that influences a company’s  control environme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TPChart"/>
          <p:cNvGraphicFramePr/>
          <p:nvPr/>
        </p:nvGraphicFramePr>
        <p:xfrm>
          <a:off x="4508640" y="1841400"/>
          <a:ext cx="4483080" cy="495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841400"/>
                    <a:ext cx="448308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11480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’s philosophy and operating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ny’s organization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of the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ny’s personnel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ent personnel, rotating duties, and mandatory vacations are examples of which element of internal contr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96920"/>
            <a:ext cx="4114800" cy="38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and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common internal control of cash receipts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1148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tty cash 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redit car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ing the duties of the cashiers and the accounting depar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nk reconcil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t of procedures for authorizing and recording liabilities and cash payments is c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114800" cy="33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oucher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funds transfer (EF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nk reconcil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rnal entries are required by a business when preparing a bank reconciliation for all of the following ex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25720"/>
            <a:ext cx="4114800" cy="37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on of a notes receivable and interest by the bank for the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NSF ch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k service char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osits in trans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29960"/>
            <a:ext cx="82296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ank would issue a credit memorandum f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79640"/>
            <a:ext cx="4114800" cy="419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nk service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printing char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on of a note receivable and interest for a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F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all companies have the same controls as eBay Inc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15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reparing a bank reconciliation, debits to cash not on the bank statement, such as deposits in transit,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25720"/>
            <a:ext cx="4114800" cy="37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ucted from the balance per 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ucted from the balance per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to the balance per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to the balance per 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29600"/>
            <a:ext cx="82296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enishing a petty cash fund requ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025720"/>
            <a:ext cx="4114800" cy="37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bit to 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its to expense accounts for the related summarized  petty cash recei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redit to Petty 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journal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s may require depositors to maintain minimum cash balances in their bank accounts c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28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nsating bal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s of cr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ty c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h equival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57200" y="762120"/>
            <a:ext cx="8305920" cy="118620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each of the following as relating to (a) the control environment, (b) risk assessment, or (c) contro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3679920"/>
          <a:ext cx="8305920" cy="249372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1 &amp; 2 are control environment; 3 is risk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 1 &amp; 3 are control procedures; 2 is risk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 1 is control procedures; 2 is control environment; 3 is risk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 1 is control environment; 2 is control procedures; 3 is risk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  <p:grpSp>
        <p:nvGrpSpPr>
          <p:cNvPr id="132" name="Group 16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33" name="Rectangle 17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8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9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7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 Box 20"/>
          <p:cNvSpPr/>
          <p:nvPr/>
        </p:nvSpPr>
        <p:spPr>
          <a:xfrm>
            <a:off x="8985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1"/>
          <p:cNvSpPr/>
          <p:nvPr/>
        </p:nvSpPr>
        <p:spPr>
          <a:xfrm>
            <a:off x="457200" y="2057400"/>
            <a:ext cx="8305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2"/>
          <p:cNvSpPr/>
          <p:nvPr/>
        </p:nvSpPr>
        <p:spPr>
          <a:xfrm>
            <a:off x="8763120" y="137160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3"/>
          <p:cNvSpPr/>
          <p:nvPr/>
        </p:nvSpPr>
        <p:spPr>
          <a:xfrm>
            <a:off x="457200" y="137160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4"/>
          <p:cNvSpPr/>
          <p:nvPr/>
        </p:nvSpPr>
        <p:spPr>
          <a:xfrm>
            <a:off x="457200" y="2155680"/>
            <a:ext cx="8305920" cy="119124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datory va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nel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of outside consultants on future market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16040"/>
            <a:ext cx="8229600" cy="80784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45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7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4343400" cy="38862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&amp; 2 are control environment; 3 is risk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&amp; 3 are control procedures; 2 is risk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is control procedures; 2 is control environment; 3 is risk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is control environment; 2 is control procedures; 3 is risk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457200" y="692280"/>
            <a:ext cx="8305920" cy="82044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data were gathered to use in reconciling the bank account of Photo 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0" y="320040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4191120"/>
          <a:ext cx="8229600" cy="21333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8,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3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6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4,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  <p:grpSp>
        <p:nvGrpSpPr>
          <p:cNvPr id="153" name="Group 17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54" name="Rectangle 18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0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7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 Box 21"/>
          <p:cNvSpPr/>
          <p:nvPr/>
        </p:nvSpPr>
        <p:spPr>
          <a:xfrm>
            <a:off x="457200" y="1676520"/>
            <a:ext cx="8305920" cy="23871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ance per ban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4,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ance per company recor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,8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 service char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osit in trans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,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SF che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standing check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,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adjusted balance on the bank reconcili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617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1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62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7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4114800" cy="28191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$18,2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$13,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$16,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$14,7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457200" y="838080"/>
            <a:ext cx="8305920" cy="311364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transactions affected the petty cash fu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 Issued check to establish a petty cash fund of $5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 The amount of cash in the petty cash fund is $120. Issued a check to replenish the fund, based on the following summary of petty cash receipts: office supplies, $300 and miscellaneous administrative expense, $75. Record any missing funds in the cash short and over accou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journal entries below correct to record the petty cash events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E OR FA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11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69" name="Rectangle 12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3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7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Line 15"/>
          <p:cNvSpPr/>
          <p:nvPr/>
        </p:nvSpPr>
        <p:spPr>
          <a:xfrm>
            <a:off x="8763120" y="1371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457200" y="4167360"/>
            <a:ext cx="8305920" cy="6570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3"/>
              </a:spcBef>
              <a:tabLst>
                <a:tab algn="l" pos="0"/>
                <a:tab algn="l" pos="519120"/>
                <a:tab algn="l" pos="1082520"/>
                <a:tab algn="r" pos="5369040"/>
                <a:tab algn="r" pos="6624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ty Ca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519120"/>
                <a:tab algn="l" pos="1082520"/>
                <a:tab algn="r" pos="5369040"/>
                <a:tab algn="r" pos="6624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457200" y="4776840"/>
            <a:ext cx="8305920" cy="123444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3"/>
              </a:spcBef>
              <a:tabLst>
                <a:tab algn="l" pos="0"/>
                <a:tab algn="l" pos="519120"/>
                <a:tab algn="l" pos="909720"/>
                <a:tab algn="r" pos="5369040"/>
                <a:tab algn="r" pos="6624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e Suppl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3"/>
              </a:spcBef>
              <a:tabLst>
                <a:tab algn="l" pos="0"/>
                <a:tab algn="l" pos="519120"/>
                <a:tab algn="l" pos="909720"/>
                <a:tab algn="r" pos="5369040"/>
                <a:tab algn="r" pos="6624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cellaneous Administrative Expen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3"/>
              </a:spcBef>
              <a:tabLst>
                <a:tab algn="l" pos="0"/>
                <a:tab algn="l" pos="519120"/>
                <a:tab algn="l" pos="909720"/>
                <a:tab algn="r" pos="5369040"/>
                <a:tab algn="r" pos="6624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h Short and O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3"/>
              </a:spcBef>
              <a:tabLst>
                <a:tab algn="l" pos="0"/>
                <a:tab algn="l" pos="519120"/>
                <a:tab algn="l" pos="909720"/>
                <a:tab algn="r" pos="5369040"/>
                <a:tab algn="r" pos="6624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380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8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79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7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2285640"/>
            <a:ext cx="4114800" cy="167652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think having controls helps with the success of a company such as eBay Inc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8908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small and large companies use the same kinds of internal contro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 it expensive to implement controls in a company as big as eBay Inc.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rbanes-Oxley applies only to publicly held compan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publicly held companies need to have a system of internal control in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the Sarbanes-Oxley Act of 2002 is to restore public confidence and trust in the financial reporting of compan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TPChart"/>
          <p:cNvGraphicFramePr/>
          <p:nvPr/>
        </p:nvGraphicFramePr>
        <p:xfrm>
          <a:off x="4508640" y="1828800"/>
          <a:ext cx="4413240" cy="496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828800"/>
                    <a:ext cx="4413240" cy="49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ty, plant, and equipment is the asset most likely to be diverted and used improperly by employ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16:26:30Z</dcterms:created>
  <dc:creator> </dc:creator>
  <dc:description/>
  <dc:language>en-US</dc:language>
  <cp:lastModifiedBy>Leslie</cp:lastModifiedBy>
  <dcterms:modified xsi:type="dcterms:W3CDTF">2008-12-30T03:04:22Z</dcterms:modified>
  <cp:revision>33</cp:revision>
  <dc:subject/>
  <dc:title>Are controls the same as laws for a business?</dc:title>
</cp:coreProperties>
</file>